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68C7-E532-4972-A0F4-08EF6344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602-D6BF-4023-874B-732C747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357-37A3-4B81-9A58-8E9DBFC9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4DF-2080-4F85-9CE9-4538AD1C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5BE-9C32-49F7-9C8D-7E11A328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501-ECA5-4A87-8C31-2FB681A5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2AB-46AF-45B2-AEFA-B36C08A1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B8A-A9DF-468C-8E73-CAC737EB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BE5-9C71-4F3E-AA74-D10BA46F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FFC-9E22-4BF4-BD8F-DD01D23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6B32-3EA2-43D2-84B7-DBBF3155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6AC-C1E7-4997-8DD2-93467361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C32-77D3-49FB-A31C-D7827F63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hapters 9 and 10 Review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More defin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tement or statements reviewing the major ideas of a spee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clusion that repeats or refers to the material used in the attention-getting step of the int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) What are the functions of a speech introduction?  (hint: there are five of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the attention of your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he importance of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your credibility on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ew the key ideas of your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Getting your audience’s atten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) What are strategies for getting your audience’s attention? (name at least five out of sev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se 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 imag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se something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us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ze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and compliment your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Conclus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 What are the functions of a speech conclusion? (hint: there are three of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your 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e audience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ne through thre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 di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from cause to effect, or from effect to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i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emonic or gimmick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 special memory device, such as alliteration, rhyme, or initial letters to spell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Four and five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-pla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variation of problem-solution organization that (1) establishes a need or deficiency, (2) offers a proposal to meet the need, (3) shows how the plans satisfies the need, and (4) suggests a plan for implementing the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-solu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a rigid organizational pattern that establishes a compelling problem and offers one or more convincing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Six through eight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-c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arguments for and against some policy, position, 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to the geography or physical structure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a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organizes a speech according aspects, or subtopics of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he 4-S strategy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9) What is the “4 S” strategy?  Explain why this strategy is effective, and describe each st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signpos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stat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. support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summarize th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y it is important: the 4 S strategy provides a basic template for organizing any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Pro-con or pro-con-assessment?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) Why would a speaker change from a pro-con to a pro-con-assessment division for their speech? Explain your answer thoroughl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oose to defend the stronger position (pro or con), then your speech becomes pro-con-assessment.  Pro-con is more appropriate for informative speeches; pro-con-assessment is more appropriate for persuasives spee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Trans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) What is a transition?  Why are the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ition is a statement connecting one though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ausal, complementary, chronological, and contrasting transitions.  Pick a topic and give examples of each type of transition for that top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al: emphasizes a cause and effect relationship between two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: adds one idea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ological: shows how one idea precedes or follows another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ing: shows how two ideas d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Organizing question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 What is an organizing question?  Why is it importa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rganizing question is one that will help you determine what ideas and information are necessary to develop y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ScriptDashed"/>
              </a:rPr>
              <a:t>Definitions</a:t>
            </a:r>
            <a:endParaRPr b="1" lang="en-US" sz="4400" spc="-1" strike="noStrike">
              <a:solidFill>
                <a:srgbClr val="000000"/>
              </a:solidFill>
              <a:latin typeface="SchoolScriptDash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designed to stimulate thought without demanding an overt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ion that asks for an overt response from liste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ment that orients the audience by revealing how the speech has organized the body of the spe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6:18:44Z</dcterms:created>
  <dc:creator>nuhs</dc:creator>
  <dc:description/>
  <dc:language>en-US</dc:language>
  <cp:lastModifiedBy>nuhs</cp:lastModifiedBy>
  <dcterms:modified xsi:type="dcterms:W3CDTF">2008-02-19T22:16:54Z</dcterms:modified>
  <cp:revision>4</cp:revision>
  <dc:subject/>
  <dc:title>Chapters 9 and 10 Review</dc:title>
</cp:coreProperties>
</file>